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F6C19-63B9-4274-BC0C-C3A2D708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E4601-837E-402F-96F2-BC6BB563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270F0-27EC-44D3-B8C3-0BF27A1E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78998-A232-4468-AD7C-D05AD10A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CA70-9135-4BF5-AD8C-C8D114AA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EF13-C037-41BF-83A8-07515421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2201-2BA8-45CC-BBE9-7D8FAF7E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3B6A-1F1F-4899-9C6C-8F23D8AC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1DE5-C106-415B-B37D-A653E003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80F1-ACE3-46E1-B681-3C2BC730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49CA-3B2F-4B1C-B891-862089DA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A109C-1939-4F81-86E7-4996424C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C3D5-3526-4FE1-9047-0E1E3F9A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6435-97C8-4C8A-B1FD-25161AF7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8958-B718-4F85-ABAD-5EE9E158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5454-CAC4-41F8-966D-709F8AB5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2898-1E31-4387-B4B4-6BA6D09D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1BC01-0643-4180-BDF3-8A368737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79965-B6B6-4605-A9A1-A90D4AE4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2937D-ACA6-42E5-8DFA-46ECEEBD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FADC4-45D6-4393-90B2-77BA4466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82F7A-A5C3-46AB-929A-E35642BF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447E4-D5E4-463B-BDD9-ED6EBCAE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E6C76-57D3-4964-A288-37970430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42A0-5E2F-49DB-8308-4A5FCEF59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076C-7687-496C-8284-F071BA7DF2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362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Principles for Getting the Job Don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ing Yourself and Your Organiz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ch Its Potent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152280" y="487440"/>
            <a:ext cx="8839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9067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726"/>
              </a:spcBef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lways giv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110%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. The Cop Outs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. The Hold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c. The Drop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. The All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on’t just fix things up temporarily, but make things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RIGH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evote yourself to what you do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BES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ccept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PRESSURE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of the moment or the position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CONSISTEN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in your lifestyle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Work as unto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LORD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7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ALKED ABOU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to Help People Remember What We S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ationsh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peti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ev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372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RAINED FO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asons Why People Fail to Perform Effective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A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are supposed to d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H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o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should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are obstacle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BEYOND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ir contro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s For Training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elect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Relate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Give them the tools they need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how them how to use the tool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Let them know your expectation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Watch them and give them specific feedback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tay with them until they experience succes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Check on them systematic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Affirm and encourage them continu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Together select someone for the trainee to train</a:t>
            </a:r>
            <a:r>
              <a:rPr b="1" lang="en-US" sz="3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220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r Goals Should B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ECIFI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LEV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ANSFE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BL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RON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as soon as possib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separate the person from the wrong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only what the person can chan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give the benefit of the doub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2962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.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s I specif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id I avoid sarcas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void words like “always” and “never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tell them how I felt about what they did wro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offer a plan to remedy the proble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ffirm them as a person and a frie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-4082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WARD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08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inters on Praising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genu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ok for opportun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y it fir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rivate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ublic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specifi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o back up your words with ac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t it in wr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lu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XCELLEN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n’t settle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VERAG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y attentio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TAI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velop a dee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IT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xcell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sses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GR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w Genui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ON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i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ver sto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PROVING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57:01Z</dcterms:modified>
  <cp:revision>58</cp:revision>
  <dc:subject/>
  <dc:title>Million Leaders Mandate</dc:title>
</cp:coreProperties>
</file>